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0826-2831-4D88-8F11-6F564A746E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ngelo usa questi tre termini per definire il bambinello che giace nella mangiatoia. Questi termini sono riassuntivi in qualche modo di tutto quello che abbiamo detto fino ad ora ed esprimono il mistero dell’incarnazione, il senso stesso del Nata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ediamoli uno per un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CCC n. 82 / </a:t>
            </a:r>
            <a:r>
              <a:rPr b="0" i="1" lang="it-IT" sz="1200" spc="-1" strike="noStrike">
                <a:solidFill>
                  <a:srgbClr val="000000"/>
                </a:solidFill>
                <a:latin typeface="Arial"/>
              </a:rPr>
              <a:t>Cristo</a:t>
            </a:r>
            <a:r>
              <a:rPr b="0" lang="it-IT" sz="1200" spc="-1" strike="noStrike">
                <a:solidFill>
                  <a:srgbClr val="000000"/>
                </a:solidFill>
                <a:latin typeface="Arial"/>
              </a:rPr>
              <a:t>: “Cristo” in greco, “Messia” in ebraico, significa “unto”. Gesù è il Cristo perché è consacrato da Dio, unto dello Spirito Santo per la missione redentrice. E’ il Messia atteso da Israele, mandato nel mondo dal Pad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CCC n. 84 / </a:t>
            </a:r>
            <a:r>
              <a:rPr b="0" i="1" lang="it-IT" sz="1200" spc="-1" strike="noStrike">
                <a:solidFill>
                  <a:srgbClr val="000000"/>
                </a:solidFill>
                <a:latin typeface="Arial"/>
              </a:rPr>
              <a:t>Signore</a:t>
            </a:r>
            <a:r>
              <a:rPr b="0" lang="it-IT" sz="1200" spc="-1" strike="noStrike">
                <a:solidFill>
                  <a:srgbClr val="000000"/>
                </a:solidFill>
                <a:latin typeface="Arial"/>
              </a:rPr>
              <a:t>: nella Bibbia, questo titolo designa abitualmente Dio Sovrano. Le prime confessioni cristiane proclamano che la potenza, l’onore e la gloria dovuti a Dio Padre sono propri anche di Gesù.</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ché Cristo e Signore, questo bimbo che giace in una mangiatoia è il nostro redentore - colui che salverà il suo popolo dai suoi peccati – il Figlio inviato dal Padre per rendere figli adottivi di Dio ed eredi della sua eterna beatitudine gli uomini caduti nel peccato ed incapaci di risollevarsi da soli, senza la grazia misericordiosa di Dio.</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amo così giunti al cuore del mistero dell’incarnazione. Chi è Gesù Cristo? Come ha potuto avvenire la nostra redenzione? Le due domande, come vedremo, sono strettamente collegat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CCC n. 87: Gesù è inscindibilmente vero Dio e vero uomo, nell’unità della sua persona divina. Egli, il Figlio di Dio, che è generato, non creato, della stessa sostanza del Padre, si è fatto vero uomo, nostro fratello, senza con ciò cessare di essere Dio, nostro Signo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enendo sempre ben presente l’inscindibile unità della due nature nell’unica persona del Verbo incarnato, dopo aver visto  come Gesù Cristo sia il Signore, cioè il Figlio di Dio, la seconda persona della Trinità, quindi Dio stesso, passiamo ora a considerare la sua natura uman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realismo dell’incarnazione: in Gesù di Nazaret Dio si è fatto veramente uomo, come noi in tutto, eccetto il peccato. Dio non ha semplicemente preso una apparenza d’uomo, una sembianza umana, non si è messo una maschera che poi ha abbandonato dopo la risurrezione, ma nel Figlio è diventato realmente e per sempre un uom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e l’arte ha rappresentato l’umanità reale di Crist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cco due esempi.</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Madonna del latte</a:t>
            </a:r>
            <a:r>
              <a:rPr b="0" lang="it-IT" sz="1200" spc="-1" strike="noStrike">
                <a:solidFill>
                  <a:srgbClr val="000000"/>
                </a:solidFill>
                <a:latin typeface="Arial"/>
              </a:rPr>
              <a:t>. Ambrogio Lorenzetti (fine XIII sec – 1348); Siena, Palazzo Arcivescovi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Vergine tiene in braccio il Bimbo ormai grandicello, che pesa e scalcia con un movimento molto naturale, puntando un piede contro il braccio della mamma. Il Bambino succhia avidamente il latte, stringendo forte tra le mani il seno di Maria. Tutta la scena è molto realistica, a sottolineare proprio la vera umanità di Gesù Bambin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Il dubbio di San Tommaso</a:t>
            </a:r>
            <a:r>
              <a:rPr b="0" lang="it-IT" sz="1200" spc="-1" strike="noStrike">
                <a:solidFill>
                  <a:srgbClr val="000000"/>
                </a:solidFill>
                <a:latin typeface="Arial"/>
              </a:rPr>
              <a:t>. Caravaggio (1571-161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realismo esasperato del dipinto, si mostra chiaramente come il Signore risorto abbia conservato interamente la sua umanità, sebbene trasfigurata nella gloria di Dio (ecco perché non viene subito riconosciuto). Gli stessi segni tremendi della sua passione rimangono indelebilmente impressi sul suo corpo glorioso e costituiscono il segno di riconoscimento per i discepoli increduli. L’umanità, </a:t>
            </a:r>
            <a:r>
              <a:rPr b="1" lang="it-IT" sz="1200" spc="-1" strike="noStrike">
                <a:solidFill>
                  <a:srgbClr val="000000"/>
                </a:solidFill>
                <a:latin typeface="Arial"/>
              </a:rPr>
              <a:t>inscindibilmente</a:t>
            </a:r>
            <a:r>
              <a:rPr b="0" lang="it-IT" sz="1200" spc="-1" strike="noStrike">
                <a:solidFill>
                  <a:srgbClr val="000000"/>
                </a:solidFill>
                <a:latin typeface="Arial"/>
              </a:rPr>
              <a:t> unita al Verbo di Dio, attraverso la passione morte e risurrezione del Signore Gesù Cristo, con la sua ascensione al cielo, entra per sempre nella gloria di Dio. Qui sta il fondamento della nostra redenzion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Dio stesso poteva salvare l’uomo, facendosi uomo Lui stesso, cioè prendendo su di sé, realmente, la natura umana e risollevandola dalla caduta del peccato. Siamo stati salvati, per così dire, dal di dentro, alla radice stessa del nostro essere uomini. In Cristo, l’umanità assunta si è riconciliata con Dio per opera di Dio stess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li antichi padri della Chiesa hanno parlato di </a:t>
            </a:r>
            <a:r>
              <a:rPr b="0" i="1" lang="it-IT" sz="1200" spc="-1" strike="noStrike">
                <a:solidFill>
                  <a:srgbClr val="000000"/>
                </a:solidFill>
                <a:latin typeface="Arial"/>
              </a:rPr>
              <a:t>meraviglioso scambio</a:t>
            </a:r>
            <a:r>
              <a:rPr b="0" lang="it-IT" sz="1200" spc="-1" strike="noStrike">
                <a:solidFill>
                  <a:srgbClr val="000000"/>
                </a:solidFill>
                <a:latin typeface="Arial"/>
              </a:rPr>
              <a:t>: Dio si è fatto come noi per farci come Lui; hanno parlato di </a:t>
            </a:r>
            <a:r>
              <a:rPr b="0" i="1" lang="it-IT" sz="1200" spc="-1" strike="noStrike">
                <a:solidFill>
                  <a:srgbClr val="000000"/>
                </a:solidFill>
                <a:latin typeface="Arial"/>
              </a:rPr>
              <a:t>divinizzazione</a:t>
            </a:r>
            <a:r>
              <a:rPr b="0" lang="it-IT" sz="1200" spc="-1" strike="noStrike">
                <a:solidFill>
                  <a:srgbClr val="000000"/>
                </a:solidFill>
                <a:latin typeface="Arial"/>
              </a:rPr>
              <a:t> dell’uomo, perché, grazie all’incarnazione di Dio, l’uomo può entrare nella gloria di Dio recuperando quella immagine e somiglianza con il proprio Creatore che aveva sfigurata con il peccat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In Gesù Cristo, il Figlio di Dio, Dio stesso, Dio da Dio, si è fatto uomo. L’eterno oggi di Dio è disceso nell’oggi effimero del mondo e trascina il nostro oggi passeggero nell’oggi perenne di Dio. Dio è così grande che può farsi piccolo. Dio è così potente che può farsi inerme e venirci incontro come un bimbo indifeso, affinchè noi possiamo amarlo. Dio è così buono da rinunciare al suo splendore divino e discendere nella stalla, affinchè noi possiamo trovarlo e perché così la sua bontà tocchi anche noi, si comunichi a noi e continui ad operare per nostro tramite. </a:t>
            </a:r>
            <a:r>
              <a:rPr b="1" lang="it-IT" sz="1200" spc="-1" strike="noStrike">
                <a:solidFill>
                  <a:srgbClr val="000000"/>
                </a:solidFill>
                <a:latin typeface="Arial"/>
              </a:rPr>
              <a:t>Dio è diventato uno di noi, affinchè noi potessimo essere con Lui, diventare simili a Lui</a:t>
            </a:r>
            <a:r>
              <a:rPr b="0" lang="it-IT" sz="1200" spc="-1" strike="noStrike">
                <a:solidFill>
                  <a:srgbClr val="000000"/>
                </a:solidFill>
                <a:latin typeface="Arial"/>
              </a:rPr>
              <a:t>” (Benedetto XV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92280" y="434484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lla luce di quanto detto, possiamo comprendere in tutta la sua profondità il significato e la realtà dell’espressione </a:t>
            </a:r>
            <a:r>
              <a:rPr b="0" i="1" lang="it-IT" sz="1200" spc="-1" strike="noStrike">
                <a:solidFill>
                  <a:srgbClr val="000000"/>
                </a:solidFill>
                <a:latin typeface="Arial"/>
              </a:rPr>
              <a:t>Dio con noi</a:t>
            </a:r>
            <a:r>
              <a:rPr b="0" lang="it-IT" sz="1200" spc="-1" strike="noStrike">
                <a:solidFill>
                  <a:srgbClr val="000000"/>
                </a:solidFill>
                <a:latin typeface="Arial"/>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vangelista Matteo vede nella nascita di Gesù la realizzazione di un oracolo del profeta Isai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Tutto questo avvenne perché si adempisse ciò che era stato detto dal Signore per mezzo del Profeta: “Ecco la vergine concepirà e partorirà un figlio che sarà chiamato Emmanuele” che significa </a:t>
            </a:r>
            <a:r>
              <a:rPr b="1" i="1" lang="it-IT" sz="1200" spc="-1" strike="noStrike">
                <a:solidFill>
                  <a:srgbClr val="000000"/>
                </a:solidFill>
                <a:latin typeface="Arial"/>
              </a:rPr>
              <a:t>Dio con noi</a:t>
            </a:r>
            <a:r>
              <a:rPr b="0" i="1" lang="it-IT" sz="1200" spc="-1" strike="noStrike">
                <a:solidFill>
                  <a:srgbClr val="000000"/>
                </a:solidFill>
                <a:latin typeface="Arial"/>
              </a:rPr>
              <a:t> </a:t>
            </a:r>
            <a:r>
              <a:rPr b="0" lang="it-IT" sz="1200" spc="-1" strike="noStrike">
                <a:solidFill>
                  <a:srgbClr val="000000"/>
                </a:solidFill>
                <a:latin typeface="Arial"/>
              </a:rPr>
              <a:t>(Mt 1,22-2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ià il popolo di Israele aveva forte la percezione della presenza e della vicinanza di Di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 il mistero dell’incarnazione ci parla di una presenza e vicinanza inaudita, inimmaginabile, di un Dio che si fa uomo e che le nostre orecchie possono udire, che i nostri occhi possono vedere e contemplare, che la nostre mani possono toccare (Cfr 1Gv 1,1-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Presepio. </a:t>
            </a:r>
            <a:r>
              <a:rPr b="0" lang="it-IT" sz="1200" spc="-1" strike="noStrike">
                <a:solidFill>
                  <a:srgbClr val="000000"/>
                </a:solidFill>
                <a:latin typeface="Arial"/>
              </a:rPr>
              <a:t>Anonimo umbro (XIV sec.); Assisi, Basilica di santa Chiar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orse poche immagini sanno esprimere come questa la tenerezza della vicinanza di Dio all’uomo. Dio per amore si è fatto così piccolo che Maria\l’uomo può abbracciarlo e portarselo alla guancia, ben sapendo che in realtà è Dio che ci stringe forte nel suo abbraccio d’amore per donarci la pienezza della vit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Il Nuovo Testamento è veramente Vangelo, la Buona Notizia che ci porta gioia. Dio non è lontano da noi, sconosciuto, enigmatico, forse pericoloso. Dio è vicino a noi, così vicino che si fa bambino, e noi possiamo dare del tu a questo Dio” (Benedetto XV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viamo a leggere questa immagine e il mistero dell’incarnazione in chiave eucaristic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Adorazione del bambino con san Bernardo</a:t>
            </a:r>
            <a:r>
              <a:rPr b="0" lang="it-IT" sz="1200" spc="-1" strike="noStrike">
                <a:solidFill>
                  <a:srgbClr val="000000"/>
                </a:solidFill>
                <a:latin typeface="Arial"/>
              </a:rPr>
              <a:t>. Filippo Lippi (1406-1469); Firenze, galleria degli Uffiz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ncarnazione opera della Trinità.</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Figlio, la seconda persona della Trinità, si è fatto uom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sa significa il termine </a:t>
            </a:r>
            <a:r>
              <a:rPr b="0" i="1" lang="it-IT" sz="1200" spc="-1" strike="noStrike">
                <a:solidFill>
                  <a:srgbClr val="000000"/>
                </a:solidFill>
                <a:latin typeface="Arial"/>
              </a:rPr>
              <a:t>incarnazione</a:t>
            </a:r>
            <a:r>
              <a:rPr b="0" lang="it-IT" sz="1200" spc="-1" strike="noStrike">
                <a:solidFill>
                  <a:srgbClr val="000000"/>
                </a:solidFill>
                <a:latin typeface="Arial"/>
              </a:rPr>
              <a: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CCC n. 86: “La Chiesa chiama </a:t>
            </a:r>
            <a:r>
              <a:rPr b="0" i="1" lang="it-IT" sz="1200" spc="-1" strike="noStrike">
                <a:solidFill>
                  <a:srgbClr val="000000"/>
                </a:solidFill>
                <a:latin typeface="Arial"/>
              </a:rPr>
              <a:t>incarnazione</a:t>
            </a:r>
            <a:r>
              <a:rPr b="0" lang="it-IT" sz="1200" spc="-1" strike="noStrike">
                <a:solidFill>
                  <a:srgbClr val="000000"/>
                </a:solidFill>
                <a:latin typeface="Arial"/>
              </a:rPr>
              <a:t> il Mistero dell’ammirabile unione della natura divina e della natura umana nell’unica Persona divina del Verbo. Per realizzare la nostra salvezza, il Figlio di Dio si è fatto </a:t>
            </a:r>
            <a:r>
              <a:rPr b="0" i="1" lang="it-IT" sz="1200" spc="-1" strike="noStrike">
                <a:solidFill>
                  <a:srgbClr val="000000"/>
                </a:solidFill>
                <a:latin typeface="Arial"/>
              </a:rPr>
              <a:t>carne</a:t>
            </a:r>
            <a:r>
              <a:rPr b="0" lang="it-IT" sz="1200" spc="-1" strike="noStrike">
                <a:solidFill>
                  <a:srgbClr val="000000"/>
                </a:solidFill>
                <a:latin typeface="Arial"/>
              </a:rPr>
              <a:t> diventando veramente uomo. La fede nell’Incarnazione è segno distintivo della fede cristian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Mistero dell’incarnazione ci dice chi è Gesù Cristo. L’incarnazione ha un fine: la nostra salvezz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tretto legame tra la soteriologia e la cristologia, cioè tra ciò che Gesù Cristo è per noi e quello che Gesù è in se stess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scoprire il significato e il senso dell’incarnazione proviamo a ripercorrere la storia dell’evento come ci è presentato dalla Bibbia e con l’aiuto di alcuni dipinti della grande tradizione pittorica italian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torniamo per un momento all’affresco che abbiamo visto all’inizio. Giotto coglie proprio il momento in cui Maria, dopo aver avvolto il Bimbo nelle fasce, lo depone nella mangiatoi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ben tre volte il racconto della nascita di Gesù secondo il Vangelo di Luca ci dice che il bambino è deposto e giace in una mangiatoia. Il testo non ci parla invece di bue ed asino, ma una antica tradizione, sulla base di alcuni testi dell’Antico Testamento, li ha inseriti nel presepe a rappresentare tutti i popoli della terra chiamati alla fede e quindi a riconoscere nel bimbo il Signore; il bue e l’asino rappresentano allora un po’ tutti noi.</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Libro d’Ore: natività. </a:t>
            </a:r>
            <a:r>
              <a:rPr b="0" lang="it-IT" sz="1200" spc="-1" strike="noStrike">
                <a:solidFill>
                  <a:srgbClr val="000000"/>
                </a:solidFill>
                <a:latin typeface="Arial"/>
              </a:rPr>
              <a:t>Anonimo miniaturista di scuola parigina (XIII sec. ); Madrid, Biblioteca Naziona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bbene: in una mangiatoia normalmente si colloca il cibo. Che cosa può farci venire in mente allora questa scena? Per vivere l’uomo ha bisogno di cibo, di nutrimento, ma per vivere l’uomo ha prima di tutto bisogno di Dio, il vero cibo, perché senza Dio, lontano da Dio, c’è solo l’infelicità, il dolore, la morte. Ma ci dice ancora qualcos’altro questa scena. Provate a guardare la forma di questa mangiatoia: sembra piuttosto un altare o un sarcofago (i sarcofagi spesso venivano usati come altare). Cosa ci viene in mente? Sicuramente l’Eucaristia, in cui il Signore Gesù si offre a noi come cibo, offre il suo corpo ed il suo sangue nel segno del pane e del vino consacrati nella messa. Il termine Betlemme, poi, significa casa del pan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ta la vita di Gesù è un dono per la nostra salvezza, ma il culmine del suo offrirsi per noi si avrà con il suo sacrificio sulla croce, con il suo soffrire e morire per donarci la vita, in una parola, con la sua Pasqua, cioè con la sua passione morte e risurrezione che noi riviviamo, a cui noi partecipiamo, ogni volta che celebriamo la messa, momento in cui il Signore continua ad offrire per noi il suo corpo ed il suo sangue, in forma sacramentale, cioè sotto le specie del pane e del vino. Ecco allora che in queste immagini noi vediamo in qualche modo già rappresentata, già prefigurata la Pasqua del Signore. La mangiatoia sembra piuttosto una tomba, un sarcofago e le fasce che avvolgono il bambino ricordano i lini o il lenzuolo con cui venivano avvolti i corpi dei morti e con i quali venne avvolto anche il corpo di Gesù.</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amo allora a mettere a confronto altre due immagini.</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Evangeliario di Egberto: natività. </a:t>
            </a:r>
            <a:r>
              <a:rPr b="0" lang="it-IT" sz="1200" spc="-1" strike="noStrike">
                <a:solidFill>
                  <a:srgbClr val="000000"/>
                </a:solidFill>
                <a:latin typeface="Arial"/>
              </a:rPr>
              <a:t>Anonimo (X secol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Evangeliario di Egberto: deposizione. </a:t>
            </a:r>
            <a:r>
              <a:rPr b="0" lang="it-IT" sz="1200" spc="-1" strike="noStrike">
                <a:solidFill>
                  <a:srgbClr val="000000"/>
                </a:solidFill>
                <a:latin typeface="Arial"/>
              </a:rPr>
              <a:t>Anonimo (X secol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dete allora quale stretto legame possiamo cogliere tra il Natale, la Pasqua e l’Eucaristia.</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750960" y="448956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Signore Gesù, dopo la sua risurrezione, continua la sua presenza in mezzo a noi in più modi, ma in modo particolare proprio nell’Eucaristia in cui si fa cibo e bevanda per noi, per fortificarci e sostenerci nel nostro cammino. Il Signore Gesù ha offerto la sua vita per noi, ha versato il suo sangue per noi una volta per tutta sulla croce. Grazie all’Eucaristia, quel sacrificio viene ripresentato per noi sull’altare delle nostre chiese ogni volta che viene celebrata la messa e così anche noi, che siamo molto lontani nel tempo e nello spazio dalla vicenda storica di Gesù, possiamo partecipare alla sua Pasqua, passione, morte e risurrezione,  e attingerne i frutti di salvezza nutrendoci del corpo e del sangue di Cris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bimbo nella mangiatoia, quindi, anticipa tutto questo e ci dice che quella piccola e tenera vita è un dono dell’infinito amore di Dio, è il nostro nutrimento, la nostra salvezza, la nostra felicità.</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ncarnazione ci parla di Dio, della sua vicinanza, del suo infinito amore, ma proprio per questo ci parla anche dell’uom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L’incarnazione ci dice che l’uomo è preziosissimo agli occhi di Dio: Dio stesso si è fatto uomo per amore dell’uom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Adorazione dei pastori. </a:t>
            </a:r>
            <a:r>
              <a:rPr b="0" lang="it-IT" sz="1200" spc="-1" strike="noStrike">
                <a:solidFill>
                  <a:srgbClr val="000000"/>
                </a:solidFill>
                <a:latin typeface="Arial"/>
              </a:rPr>
              <a:t>Murillo Bartolomè Esteban (1618-1682); Madrid, Museo del Pra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ncarnazione ci narra dell’altissima dignità dell’uomo, di tutto l’uomo, in ogni momento della sua vita: Dio stesso, facendosi uomo, ha percorso tutte le fasi della vita umana, dal concepimento alla morte, di tutte mostrandoci la grandezza e la bellezz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ncarnazione ci dice l’importanza e la bellezza di una famiglia accogliente, aperta alla vita, aperta a Dio nella fede e nella preghiera e aperta al prossim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ncarnazione, il farsi uomo di Dio, un uomo che per trenta anni vive nel nascondimento di una esistenza ordinaria, ci invita a percorrere con coraggio la strada della santità nella vita quotidiana cui  tutti siamo chiamati, una vita fatta si preghiera, semplicità, lavoro, amore famigliare (cfr. CCCC n. 104).</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ncarnazione ci dice che la vera forza capace di cambiare il mondo sta nell’amore, nella vita donata per amo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ncarnazione ci insegna a guardare prima di tutto agli umili, ai poveri, agli oppressi, agli ultimi di questa terra, perché con loro il Signore a voluto identificarsi, umile tra gli umili, povero tra i poveri (cfr. i pastor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Adorazione dei Magi. </a:t>
            </a:r>
            <a:r>
              <a:rPr b="0" lang="it-IT" sz="1200" spc="-1" strike="noStrike">
                <a:solidFill>
                  <a:srgbClr val="000000"/>
                </a:solidFill>
                <a:latin typeface="Arial"/>
              </a:rPr>
              <a:t>Giotto (1267 ca-1337); Padova, cappella degli Scrovegn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ncarnazione ci parla della grandezza dell’umiltà che noi tutti dovremmo imparare guardando a Cristo, a Dio che si è abbassato e umiliato per amo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ncarnazione ci invita ad abbandonare il nostro egoismo, la nostra arroganza, la nostra pretesa autosufficienza, perché l’uomo si realizza pienamente soltanto in Dio, può innalzarsi soltanto perché Dio si è abbassato per attirarlo a sé.</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Magi non assolutizzano la ragione umana, ma lasciandosi condurre dalla loro stessa scienza, arrivano a percepirne i limiti, a sentirsi bisognosi di una guida sicura che trascenda le loro capacità umane. Ecco prima l’incontro a Gerusalemme con le Scritture che li conducono a Betlemme, ed ecco infine l’incontro con il Verbo incarnato, che viene a rispondere in modo inimmaginabile alle loro attese più profonde e per le quali si erano messi in cammino, incontro che dischiude alla stessa ragione umana orizzonti prima inimmaginabili. Di fronte alla Verità, umilmente i Magi si prostrano, perché la verità non è una conquista dell’uomo, o un campo di battaglia da cui esce vincitore il più forte, ma è Dio stesso che si rivela all’uomo e gli rende nota la sua altissima vocazi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Dio di Israele aveva guidato il suo popolo fuori dall’Egitto, aveva preso dimora presso la tenda del convegno (Es 40,34), era un Dio vicino, amorevole, compassionevole, pronto a perdonare le infedeltà del suo popolo (Os 11,7-9). Ma nei momenti bui quali l’esilio, Dio pare lontano, pare essersi dimenticato del suo popolo. In realtà Israele è cosciente di avere peccato, di essere stato lui ad allontanarsi dal suo Signore e così, per bocca del profeta, lo invoca, sapendo che Dio è un padre misericordios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ante volte anche noi ripetiamo e sentiamo ripetere questa invocazione? Quante volte il cuore sofferente dell’uomo, in ogni tempo, pronuncia queste paro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Ma Dio non abbandona il suo popolo. Sempre per bocca dei profeti promette l’invio di un Salvatore che redimerà Israele ed instaurerà il regno di Dio, regno di paca e di giustizi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sraele viveva dunque nell’attesa del Messia, del Salvatore; viveva nella speranza fondata sulla certezza della fedeltà di Dio alle proprie promess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io infatti è un Dio fedele, ma nel suo infinito amore supera infinitamente le stesse attese dell’uom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cco cosa accadde un giorno in una città della Galilea chiamata Nazare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Madonna col Bambino. </a:t>
            </a:r>
            <a:r>
              <a:rPr b="0" lang="it-IT" sz="1200" spc="-1" strike="noStrike">
                <a:solidFill>
                  <a:srgbClr val="000000"/>
                </a:solidFill>
                <a:latin typeface="Arial"/>
              </a:rPr>
              <a:t>Simone Martini (1284-1344); Siena, Pinacoteca Naziona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Se tu squarciassi i cieli e scendess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incarnazione ci dice che Dio ha squarciato i cieli ed è sceso, perché Dio non è insensibile al grido e alla sofferenza dell’uomo. L’uomo non è stato creato per la morte, ma per la vita, per la pienezza della vita, per la vita etern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ultima immagine che vi propongo è questa splendida Madonna col Bambino di Simone Martin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i invito a guardare con attenzione le mani di Maria e del Figlio che si intreccian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o in questo particolare emerge tutto l’amore e la tenerezza della Vergine. Gesù, con un gesto tipico dei bambini, stringe forte, con la manina, il dito di sua madre. Ma proprio questa piccola mano è la mano di Dio che stringe forte la mano dell’uomo, di ogni uomo, per risollevarlo dalla caduta a attirarlo a sé. Qui, la mano forte non è quella premurosa ed accogliente di Maria, ma quella del Bambino che sembra sollevare la mano di sua mad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vere il Mistero dell’incarnazione significa lasciarsi prendere per mano da Dio, un Dio che è venuto a cercarci là dove noi siamo, per “lasciarsi afferrare” e così attirarci tutti a sé, nella pienezza di vita e nella felicità etern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Annunciazione.</a:t>
            </a:r>
            <a:r>
              <a:rPr b="0" lang="it-IT" sz="1200" spc="-1" strike="noStrike">
                <a:solidFill>
                  <a:srgbClr val="000000"/>
                </a:solidFill>
                <a:latin typeface="Arial"/>
              </a:rPr>
              <a:t> Beato Angelico (1397-1455); Cortona, Museo Diocesan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racconto dell’annunciazione lo troviamo in Lc 1,26-38. E’ un brano splendido e ricchissimo. Vorrei fare solo alcune sottolineatur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oviamo a leggere le parole dell’angelo in parallelo con un brano del profeta Sofonia. Sarà utile per capirne il sens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Ti saluto (</a:t>
            </a:r>
            <a:r>
              <a:rPr b="0" i="1" lang="it-IT" sz="1200" spc="-1" strike="noStrike">
                <a:solidFill>
                  <a:srgbClr val="000000"/>
                </a:solidFill>
                <a:latin typeface="Arial"/>
              </a:rPr>
              <a:t>rallegrati</a:t>
            </a:r>
            <a:r>
              <a:rPr b="0" lang="it-IT" sz="1200" spc="-1" strike="noStrike">
                <a:solidFill>
                  <a:srgbClr val="000000"/>
                </a:solidFill>
                <a:latin typeface="Arial"/>
              </a:rPr>
              <a:t>), o piena di grazia, il Signore è con te”; “Non temere, Mari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e parole che il Profeta aveva indirizzate all’umile resto di Israele, la figlia di Sion, invitandolo alla gioia per la presenza del Signore in mezzo a lui, vengono ora rivolte dall’angelo a Maria. E così a Maria “appare con chiarezza che proprio lei è la figlia di Sion, che quindi il Signore ha un’intenzione speciale per lei, che lei è chiamata ad essere la vera dimora di Dio, una dimora non fatta di pietre, ma di carne viva, di un cuore vivo, che Dio intende in realtà prendere come Suo vero tempio proprio lei, la Vergine” (Benedetto XV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seno della vergine Maria si compiono, in modo sorprendente, le promesse di Di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sistenza sul tema della gioi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onte della gioia è la presenza di Dio in mezzo a no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capire il senso di questo evento che si compie nel seno della Vergine Maria, per capire il senso dell’espressione del profeta Sofonia </a:t>
            </a:r>
            <a:r>
              <a:rPr b="0" i="1" lang="it-IT" sz="1200" spc="-1" strike="noStrike">
                <a:solidFill>
                  <a:srgbClr val="000000"/>
                </a:solidFill>
                <a:latin typeface="Arial"/>
              </a:rPr>
              <a:t>“il Signore tuo Dio in mezzo a te è un salvatore potente”,</a:t>
            </a:r>
            <a:r>
              <a:rPr b="0" lang="it-IT" sz="1200" spc="-1" strike="noStrike">
                <a:solidFill>
                  <a:srgbClr val="000000"/>
                </a:solidFill>
                <a:latin typeface="Arial"/>
              </a:rPr>
              <a:t> il Beato Angelico ci presenta un riassunto dell’intera storia della salvezz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fatti, l’angelo, Maria e lo Spirito Santo non sono gli unici personaggi della scen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acciata di Adamo ed Eva dal giardino dell’Ede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arallelismo Eva\Maria: l’obbedienza di Maria ripara alla disobbedienza di Eva. Eva, con la sua disobbedienza, porta nel mondo il peccato e la morte; Maria, con l’obbedienza della fede a Dio </a:t>
            </a:r>
            <a:r>
              <a:rPr b="0" i="1" lang="it-IT" sz="1200" spc="-1" strike="noStrike">
                <a:solidFill>
                  <a:srgbClr val="000000"/>
                </a:solidFill>
                <a:latin typeface="Arial"/>
              </a:rPr>
              <a:t>(Eccomi, sono la serva del Signore, avvenga di me quello che hai detto”),</a:t>
            </a:r>
            <a:r>
              <a:rPr b="0" lang="it-IT" sz="1200" spc="-1" strike="noStrike">
                <a:solidFill>
                  <a:srgbClr val="000000"/>
                </a:solidFill>
                <a:latin typeface="Arial"/>
              </a:rPr>
              <a:t> fa entrare nel mondo, in Gesù Cristo, la grazia e la salvezz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parallelismo rimanda in realtà all’altro e fondamentale parallelismo </a:t>
            </a:r>
            <a:r>
              <a:rPr b="0" i="1" lang="it-IT" sz="1200" spc="-1" strike="noStrike">
                <a:solidFill>
                  <a:srgbClr val="000000"/>
                </a:solidFill>
                <a:latin typeface="Arial"/>
              </a:rPr>
              <a:t>asimmetrico</a:t>
            </a:r>
            <a:r>
              <a:rPr b="0" lang="it-IT" sz="1200" spc="-1" strike="noStrike">
                <a:solidFill>
                  <a:srgbClr val="000000"/>
                </a:solidFill>
                <a:latin typeface="Arial"/>
              </a:rPr>
              <a:t> tra Adamo e Cristo, il nuovo Adamo (cfr. Rm 5,12-2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Adamo è figura di colui che doveva venir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Ma il dono di grazia non è come la caduta: se infatti per la caduta di uno solo morirono tutti, molto di più la grazia di Dio e il dono concesso in grazia di un solo uomo, Gesù Cristo, si sono riversati in abbondanza su tutti gli uomin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Come dunque per la colpa di uno solo si è riversata su tutti gli uomini la condanna, così anche per l’opera di giustizia di uno solo si riversa su tutti gli uomini la giustificazione che dà vita. Similmente, come per la disobbedienza di uno solo tutti sono stati costituiti peccatori, così anche per l’obbedienza di uno solo tutti saranno costituiti giust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amo così arrivati al Natale, alla nascita di Gesù Cristo che possiamo introdurre con queste parole scritte da Paolo nella lettera a Tito e che ascoltiamo ogni anno nella liturgia della parola proprio durante la messa della notte di Nata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Natività</a:t>
            </a:r>
            <a:r>
              <a:rPr b="0" lang="it-IT" sz="1200" spc="-1" strike="noStrike">
                <a:solidFill>
                  <a:srgbClr val="000000"/>
                </a:solidFill>
                <a:latin typeface="Arial"/>
              </a:rPr>
              <a:t>. Giotto (1267 ca-1377); Padova, cappella degli Scrovegni.</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questa natività di Giotto vediamo rappresentato il racconto della nascita di Gesù secondo Lc 2,1-2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orrei, per il momento, soffermarmi su un solo elemento di questo brano: l’annuncio dell’angelo ai pastor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453E6-B0A2-4C37-AE9E-FCCEB1314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DF81A-4AEF-4146-A5A1-A99F3AD46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0C711-2ADD-48E5-BDA8-B7B7259EA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78D6B-608D-4AF6-B9C1-EC76C9FD4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8EB88-B1DF-4FE4-BAC3-1A4134E5B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BB877-DE18-4564-9877-71DEEB0C58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CA977-B584-4469-AE38-DC691E292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CDB17-E8F9-4F7A-913A-499B1A0ED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57EB2-B021-4BD8-8150-A7A2602BB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2C225-4EEF-4AF5-A500-BCC7A9EF1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602FF-3C84-4897-9B19-DE9FE4566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99C20-5034-456C-8485-502E2E0B3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B373-A0B3-427B-B3BC-AEC34D066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8.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27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600" spc="-1" strike="noStrike">
                <a:solidFill>
                  <a:srgbClr val="ff0000"/>
                </a:solidFill>
                <a:latin typeface="Comic Sans MS"/>
              </a:rPr>
              <a:t>E IL VERBO SI FECE CARNE…</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995280" y="691920"/>
            <a:ext cx="4691160" cy="5832360"/>
          </a:xfrm>
          <a:prstGeom prst="rect">
            <a:avLst/>
          </a:prstGeom>
          <a:noFill/>
          <a:ln w="0">
            <a:noFill/>
          </a:ln>
        </p:spPr>
        <p:txBody>
          <a:bodyPr lIns="90000" rIns="90000" tIns="46800" bIns="46800" anchor="t">
            <a:normAutofit fontScale="98000"/>
          </a:bodyPr>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4000" spc="-1" strike="noStrike">
                <a:solidFill>
                  <a:srgbClr val="000000"/>
                </a:solidFill>
                <a:latin typeface="Comic Sans MS"/>
              </a:rPr>
              <a:t>…</a:t>
            </a:r>
            <a:r>
              <a:rPr b="0" lang="it-IT" sz="4000" spc="-1" strike="noStrike">
                <a:solidFill>
                  <a:srgbClr val="000000"/>
                </a:solidFill>
                <a:latin typeface="Comic Sans MS"/>
              </a:rPr>
              <a:t>Ecco vi annunzio una grande gioia, che sarà di tutto il popolo: oggi vi è nato nella città di Davide un </a:t>
            </a:r>
            <a:r>
              <a:rPr b="0" lang="it-IT" sz="4000" spc="-1" strike="noStrike">
                <a:solidFill>
                  <a:srgbClr val="ff0000"/>
                </a:solidFill>
                <a:latin typeface="Comic Sans MS"/>
              </a:rPr>
              <a:t>salvatore</a:t>
            </a:r>
            <a:r>
              <a:rPr b="0" lang="it-IT" sz="4000" spc="-1" strike="noStrike">
                <a:solidFill>
                  <a:srgbClr val="000000"/>
                </a:solidFill>
                <a:latin typeface="Comic Sans MS"/>
              </a:rPr>
              <a:t>, che è il </a:t>
            </a:r>
            <a:r>
              <a:rPr b="0" lang="it-IT" sz="4000" spc="-1" strike="noStrike">
                <a:solidFill>
                  <a:srgbClr val="ff0000"/>
                </a:solidFill>
                <a:latin typeface="Comic Sans MS"/>
              </a:rPr>
              <a:t>Cristo</a:t>
            </a:r>
            <a:r>
              <a:rPr b="0" lang="it-IT" sz="4000" spc="-1" strike="noStrike">
                <a:solidFill>
                  <a:srgbClr val="000000"/>
                </a:solidFill>
                <a:latin typeface="Comic Sans MS"/>
              </a:rPr>
              <a:t> </a:t>
            </a:r>
            <a:r>
              <a:rPr b="0" lang="it-IT" sz="4000" spc="-1" strike="noStrike">
                <a:solidFill>
                  <a:srgbClr val="ff0000"/>
                </a:solidFill>
                <a:latin typeface="Comic Sans MS"/>
              </a:rPr>
              <a:t>Signore</a:t>
            </a:r>
            <a:r>
              <a:rPr b="0" lang="it-IT" sz="4000" spc="-1" strike="noStrike">
                <a:solidFill>
                  <a:srgbClr val="000000"/>
                </a:solidFill>
                <a:latin typeface="Comic Sans MS"/>
              </a:rPr>
              <a:t>.</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              </a:t>
            </a:r>
            <a:r>
              <a:rPr b="0" lang="it-IT" sz="2400" spc="-1" strike="noStrike">
                <a:solidFill>
                  <a:srgbClr val="000000"/>
                </a:solidFill>
                <a:latin typeface="Comic Sans MS"/>
              </a:rPr>
              <a:t>(Lc 2,10-11)</a:t>
            </a:r>
            <a:r>
              <a:rPr b="0" lang="it-IT" sz="4000" spc="-1" strike="noStrike">
                <a:solidFill>
                  <a:srgbClr val="000000"/>
                </a:solidFill>
                <a:latin typeface="Comic Sans MS"/>
              </a:rPr>
              <a:t> </a:t>
            </a:r>
            <a:endParaRPr b="0" lang="en-US" sz="4000" spc="-1" strike="noStrike">
              <a:solidFill>
                <a:srgbClr val="000000"/>
              </a:solidFill>
              <a:latin typeface="Arial"/>
            </a:endParaRPr>
          </a:p>
        </p:txBody>
      </p:sp>
      <p:pic>
        <p:nvPicPr>
          <p:cNvPr id="60" name="" descr=""/>
          <p:cNvPicPr/>
          <p:nvPr/>
        </p:nvPicPr>
        <p:blipFill>
          <a:blip r:embed="rId1"/>
          <a:srcRect l="48392" t="0" r="0" b="0"/>
          <a:stretch/>
        </p:blipFill>
        <p:spPr>
          <a:xfrm>
            <a:off x="611280" y="468360"/>
            <a:ext cx="3006720" cy="5913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836640"/>
            <a:ext cx="4038480" cy="4525920"/>
          </a:xfrm>
          <a:prstGeom prst="rect">
            <a:avLst/>
          </a:prstGeom>
          <a:noFill/>
          <a:ln w="0">
            <a:noFill/>
          </a:ln>
        </p:spPr>
        <p:txBody>
          <a:bodyPr lIns="90000" rIns="90000" tIns="46800" bIns="46800"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Il salvatore</a:t>
            </a:r>
            <a:endParaRPr b="0" lang="en-US" sz="5400" spc="-1" strike="noStrike">
              <a:solidFill>
                <a:srgbClr val="000000"/>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Cristo</a:t>
            </a:r>
            <a:endParaRPr b="0" lang="en-US" sz="5400" spc="-1" strike="noStrike">
              <a:solidFill>
                <a:srgbClr val="000000"/>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Signore</a:t>
            </a:r>
            <a:endParaRPr b="0" lang="en-US" sz="5400" spc="-1" strike="noStrike">
              <a:solidFill>
                <a:srgbClr val="000000"/>
              </a:solidFill>
              <a:latin typeface="Arial"/>
            </a:endParaRPr>
          </a:p>
        </p:txBody>
      </p:sp>
      <p:pic>
        <p:nvPicPr>
          <p:cNvPr id="62" name="" descr=""/>
          <p:cNvPicPr/>
          <p:nvPr/>
        </p:nvPicPr>
        <p:blipFill>
          <a:blip r:embed="rId1"/>
          <a:srcRect l="30306" t="74514" r="25119" b="0"/>
          <a:stretch/>
        </p:blipFill>
        <p:spPr>
          <a:xfrm>
            <a:off x="3708360" y="3135240"/>
            <a:ext cx="5256360" cy="3309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90320"/>
            <a:ext cx="8229600" cy="5530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rPr>
              <a:t>   </a:t>
            </a:r>
            <a:r>
              <a:rPr b="0" lang="en-US" sz="8000" spc="-1" strike="noStrike">
                <a:solidFill>
                  <a:srgbClr val="ff0000"/>
                </a:solidFill>
                <a:latin typeface="Comic Sans MS"/>
              </a:rPr>
              <a:t>Vero Dio </a:t>
            </a:r>
            <a:br>
              <a:rPr sz="8000"/>
            </a:br>
            <a:r>
              <a:rPr b="0" lang="en-US" sz="8000" spc="-1" strike="noStrike">
                <a:solidFill>
                  <a:srgbClr val="ff0000"/>
                </a:solidFill>
                <a:latin typeface="Comic Sans MS"/>
              </a:rPr>
              <a:t>   e vero uomo</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0" r="0" b="393"/>
          <a:stretch/>
        </p:blipFill>
        <p:spPr>
          <a:xfrm>
            <a:off x="2916360" y="27000"/>
            <a:ext cx="3405240" cy="6831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79280" y="260280"/>
            <a:ext cx="8785440" cy="6364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rcRect l="12739" t="42567" r="48035" b="22967"/>
          <a:stretch/>
        </p:blipFill>
        <p:spPr>
          <a:xfrm>
            <a:off x="3924360" y="3691080"/>
            <a:ext cx="4680000" cy="2977920"/>
          </a:xfrm>
          <a:prstGeom prst="rect">
            <a:avLst/>
          </a:prstGeom>
          <a:ln w="0">
            <a:noFill/>
          </a:ln>
        </p:spPr>
      </p:pic>
      <p:pic>
        <p:nvPicPr>
          <p:cNvPr id="67" name="" descr=""/>
          <p:cNvPicPr/>
          <p:nvPr/>
        </p:nvPicPr>
        <p:blipFill>
          <a:blip r:embed="rId2"/>
          <a:srcRect l="40050" t="49952" r="0" b="26167"/>
          <a:stretch/>
        </p:blipFill>
        <p:spPr>
          <a:xfrm>
            <a:off x="611280" y="189000"/>
            <a:ext cx="4105080" cy="329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39400"/>
            <a:ext cx="8229600" cy="4449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0000"/>
                </a:solidFill>
                <a:latin typeface="Comic Sans MS"/>
              </a:rPr>
              <a:t>  </a:t>
            </a:r>
            <a:r>
              <a:rPr b="0" lang="en-US" sz="8800" spc="-1" strike="noStrike">
                <a:solidFill>
                  <a:srgbClr val="ff0000"/>
                </a:solidFill>
                <a:latin typeface="Comic Sans MS"/>
              </a:rPr>
              <a:t>L’Emmanuele,</a:t>
            </a:r>
            <a:br>
              <a:rPr sz="8800"/>
            </a:br>
            <a:r>
              <a:rPr b="0" lang="en-US" sz="8800" spc="-1" strike="noStrike">
                <a:solidFill>
                  <a:srgbClr val="ff0000"/>
                </a:solidFill>
                <a:latin typeface="Comic Sans MS"/>
              </a:rPr>
              <a:t>  il Dio con noi</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206000"/>
            <a:ext cx="8229600" cy="4599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Comic Sans MS"/>
              </a:rPr>
              <a:t>…</a:t>
            </a:r>
            <a:r>
              <a:rPr b="0" lang="it-IT" sz="5400" spc="-1" strike="noStrike">
                <a:solidFill>
                  <a:srgbClr val="000000"/>
                </a:solidFill>
                <a:latin typeface="Comic Sans MS"/>
              </a:rPr>
              <a:t>Qual grande nazione ha la divinità così vicina a sé, come il Signore nostro Dio è vicino a noi ogni volta che lo invochiamo?</a:t>
            </a:r>
            <a:br>
              <a:rPr sz="5400"/>
            </a:br>
            <a:r>
              <a:rPr b="0" lang="it-IT" sz="5400" spc="-1" strike="noStrike">
                <a:solidFill>
                  <a:srgbClr val="000000"/>
                </a:solidFill>
                <a:latin typeface="Comic Sans MS"/>
              </a:rPr>
              <a:t>                            </a:t>
            </a:r>
            <a:r>
              <a:rPr b="0" lang="it-IT" sz="4000" spc="-1" strike="noStrike">
                <a:solidFill>
                  <a:srgbClr val="000000"/>
                </a:solidFill>
                <a:latin typeface="Comic Sans MS"/>
              </a:rPr>
              <a:t>(Dt 4,7)</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246400" y="0"/>
            <a:ext cx="498312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6348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omic Sans MS"/>
              </a:rPr>
              <a:t>L’Incarnazione e l’Eucaristia</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547640" y="0"/>
            <a:ext cx="622944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648320" y="1424160"/>
            <a:ext cx="403848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3600" spc="-1" strike="noStrike">
                <a:solidFill>
                  <a:srgbClr val="000000"/>
                </a:solidFill>
                <a:latin typeface="Comic Sans MS"/>
              </a:rPr>
              <a:t>… </a:t>
            </a:r>
            <a:r>
              <a:rPr b="0" lang="it-IT" sz="3600" spc="-1" strike="noStrike">
                <a:solidFill>
                  <a:srgbClr val="000000"/>
                </a:solidFill>
                <a:latin typeface="Comic Sans MS"/>
              </a:rPr>
              <a:t>Diede alla luce il suo figlio primogenito, lo avvolse in fasce e lo depose in una </a:t>
            </a:r>
            <a:r>
              <a:rPr b="0" lang="it-IT" sz="3600" spc="-1" strike="noStrike">
                <a:solidFill>
                  <a:srgbClr val="ff0000"/>
                </a:solidFill>
                <a:latin typeface="Comic Sans MS"/>
              </a:rPr>
              <a:t>mangiatoia</a:t>
            </a:r>
            <a:r>
              <a:rPr b="0" lang="it-IT" sz="3600" spc="-1" strike="noStrike">
                <a:solidFill>
                  <a:srgbClr val="000000"/>
                </a:solidFill>
                <a:latin typeface="Comic Sans MS"/>
              </a:rPr>
              <a:t>.</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Lc 2,7)</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 name="" descr=""/>
          <p:cNvPicPr/>
          <p:nvPr/>
        </p:nvPicPr>
        <p:blipFill>
          <a:blip r:embed="rId1"/>
          <a:srcRect l="0" t="28895" r="69331" b="28136"/>
          <a:stretch/>
        </p:blipFill>
        <p:spPr>
          <a:xfrm>
            <a:off x="828720" y="836640"/>
            <a:ext cx="3598920" cy="512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413080" y="0"/>
            <a:ext cx="4464000" cy="688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0" y="1566360"/>
            <a:ext cx="4038480" cy="4526280"/>
          </a:xfrm>
          <a:prstGeom prst="rect">
            <a:avLst/>
          </a:prstGeom>
          <a:noFill/>
          <a:ln w="0">
            <a:noFill/>
          </a:ln>
        </p:spPr>
        <p:txBody>
          <a:bodyPr lIns="90000" rIns="90000" tIns="46800" bIns="46800" anchor="t">
            <a:normAutofit/>
          </a:bodyPr>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PRENDETE, E MANGIATENE TUTTI: QUESTO E’ IL MIO CORPO OFFERTO IN SACRIFICIO PER VOI</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6" name="" descr=""/>
          <p:cNvPicPr/>
          <p:nvPr/>
        </p:nvPicPr>
        <p:blipFill>
          <a:blip r:embed="rId1"/>
          <a:srcRect l="0" t="0" r="37486" b="62798"/>
          <a:stretch/>
        </p:blipFill>
        <p:spPr>
          <a:xfrm>
            <a:off x="468360" y="404640"/>
            <a:ext cx="3654360" cy="335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340000" y="141120"/>
            <a:ext cx="4533840" cy="6527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2411280" y="115920"/>
            <a:ext cx="4519800" cy="668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rcRect l="6077" t="4605" r="8286" b="55526"/>
          <a:stretch/>
        </p:blipFill>
        <p:spPr>
          <a:xfrm>
            <a:off x="468360" y="260280"/>
            <a:ext cx="4632120" cy="3106800"/>
          </a:xfrm>
          <a:prstGeom prst="rect">
            <a:avLst/>
          </a:prstGeom>
          <a:ln w="0">
            <a:noFill/>
          </a:ln>
        </p:spPr>
      </p:pic>
      <p:pic>
        <p:nvPicPr>
          <p:cNvPr id="80" name="" descr=""/>
          <p:cNvPicPr/>
          <p:nvPr/>
        </p:nvPicPr>
        <p:blipFill>
          <a:blip r:embed="rId2"/>
          <a:srcRect l="4108" t="56529" r="5437" b="2718"/>
          <a:stretch/>
        </p:blipFill>
        <p:spPr>
          <a:xfrm>
            <a:off x="3922560" y="3502080"/>
            <a:ext cx="4753080" cy="3166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rcRect l="0" t="0" r="37370" b="65790"/>
          <a:stretch/>
        </p:blipFill>
        <p:spPr>
          <a:xfrm>
            <a:off x="2050920" y="1268280"/>
            <a:ext cx="5067360" cy="4267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50760" y="274320"/>
            <a:ext cx="8229600" cy="5962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Comic Sans MS"/>
              </a:rPr>
              <a:t>L’altissima dignità                   dell’uomo</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60360" y="-27000"/>
            <a:ext cx="8459640" cy="6891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332000" y="0"/>
            <a:ext cx="65754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493640"/>
            <a:ext cx="8229600" cy="467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it-IT" sz="7200" spc="-1" strike="noStrike">
                <a:solidFill>
                  <a:srgbClr val="000000"/>
                </a:solidFill>
                <a:latin typeface="Comic Sans MS"/>
              </a:rPr>
              <a:t>Se tu squarciassi i cieli e scendessi !</a:t>
            </a:r>
            <a:br>
              <a:rPr sz="6000"/>
            </a:br>
            <a:r>
              <a:rPr b="0" lang="it-IT" sz="6000" spc="-1" strike="noStrike">
                <a:solidFill>
                  <a:srgbClr val="000000"/>
                </a:solidFill>
                <a:latin typeface="Comic Sans MS"/>
              </a:rPr>
              <a:t>                      </a:t>
            </a:r>
            <a:r>
              <a:rPr b="0" lang="it-IT" sz="4800" spc="-1" strike="noStrike">
                <a:solidFill>
                  <a:srgbClr val="000000"/>
                </a:solidFill>
                <a:latin typeface="Comic Sans MS"/>
              </a:rPr>
              <a:t>(Is 63,19)</a:t>
            </a:r>
            <a:br>
              <a:rPr sz="4000"/>
            </a:br>
            <a:br>
              <a:rPr sz="4000"/>
            </a:br>
            <a:br>
              <a:rPr sz="4000"/>
            </a:br>
            <a:br>
              <a:rPr sz="4000"/>
            </a:br>
            <a:br>
              <a:rPr sz="40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050920" y="0"/>
            <a:ext cx="515628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rcRect l="35296" t="61290" r="33602" b="17798"/>
          <a:stretch/>
        </p:blipFill>
        <p:spPr>
          <a:xfrm>
            <a:off x="1979640" y="1125360"/>
            <a:ext cx="5113440" cy="457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9640" y="14400"/>
            <a:ext cx="7993080" cy="687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44360"/>
            <a:ext cx="4906800" cy="66693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Gioisci</a:t>
            </a:r>
            <a:r>
              <a:rPr b="0" lang="it-IT" sz="2000" spc="-1" strike="noStrike">
                <a:solidFill>
                  <a:srgbClr val="000000"/>
                </a:solidFill>
                <a:latin typeface="Comic Sans MS"/>
              </a:rPr>
              <a:t>, figlia di Sio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ulta, Israel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 </a:t>
            </a:r>
            <a:r>
              <a:rPr b="0" lang="it-IT" sz="2000" spc="-1" strike="noStrike">
                <a:solidFill>
                  <a:srgbClr val="ff0000"/>
                </a:solidFill>
                <a:latin typeface="Comic Sans MS"/>
              </a:rPr>
              <a:t>rallegrati</a:t>
            </a:r>
            <a:r>
              <a:rPr b="0" lang="it-IT" sz="2000" spc="-1" strike="noStrike">
                <a:solidFill>
                  <a:srgbClr val="000000"/>
                </a:solidFill>
                <a:latin typeface="Comic Sans MS"/>
              </a:rPr>
              <a:t> con tutto il cuor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glia di Gerusalemm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Signore ha revocato la tua condan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ha disperso il tuo nemic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e d’Israele è il </a:t>
            </a:r>
            <a:r>
              <a:rPr b="0" lang="it-IT" sz="2000" spc="-1" strike="noStrike">
                <a:solidFill>
                  <a:srgbClr val="ff0000"/>
                </a:solidFill>
                <a:latin typeface="Comic Sans MS"/>
              </a:rPr>
              <a:t>Signore in mezzo a te</a:t>
            </a:r>
            <a:r>
              <a:rPr b="0" lang="it-IT" sz="2000" spc="-1" strike="noStrike">
                <a:solidFill>
                  <a:srgbClr val="000000"/>
                </a:solidFill>
                <a:latin typeface="Comic Sans MS"/>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u non vedrai più la tua sventur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quel giorno si dirà a Gerusalemm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Non temere</a:t>
            </a:r>
            <a:r>
              <a:rPr b="0" lang="it-IT" sz="2000" spc="-1" strike="noStrike">
                <a:solidFill>
                  <a:srgbClr val="000000"/>
                </a:solidFill>
                <a:latin typeface="Comic Sans MS"/>
              </a:rPr>
              <a:t>, Sion, non lasciarti cadere la bracci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l Signore tuo Dio in mezzo a t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è un salvatore potente</a:t>
            </a:r>
            <a:r>
              <a:rPr b="0" lang="it-IT" sz="2000" spc="-1" strike="noStrike">
                <a:solidFill>
                  <a:srgbClr val="000000"/>
                </a:solidFill>
                <a:latin typeface="Comic Sans MS"/>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ulterà di gioia per t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ti rinnoverà con il suo amore</a:t>
            </a:r>
            <a:r>
              <a:rPr b="0" lang="it-IT" sz="2000" spc="-1" strike="noStrike">
                <a:solidFill>
                  <a:srgbClr val="000000"/>
                </a:solidFill>
                <a:latin typeface="Comic Sans MS"/>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 rallegrerà per te con grida di gioi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me nei giorni di fest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Sf 3,14-18</a:t>
            </a:r>
            <a:endParaRPr b="0" lang="en-US" sz="2000" spc="-1" strike="noStrike">
              <a:solidFill>
                <a:srgbClr val="000000"/>
              </a:solidFill>
              <a:latin typeface="Arial"/>
            </a:endParaRPr>
          </a:p>
        </p:txBody>
      </p:sp>
      <p:pic>
        <p:nvPicPr>
          <p:cNvPr id="53" name="" descr=""/>
          <p:cNvPicPr/>
          <p:nvPr/>
        </p:nvPicPr>
        <p:blipFill>
          <a:blip r:embed="rId1"/>
          <a:srcRect l="71608" t="7532" r="0" b="0"/>
          <a:stretch/>
        </p:blipFill>
        <p:spPr>
          <a:xfrm>
            <a:off x="6326280" y="115920"/>
            <a:ext cx="2365200" cy="662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39640" y="14400"/>
            <a:ext cx="7993080" cy="687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95640" y="1268280"/>
            <a:ext cx="4402080" cy="4525920"/>
          </a:xfrm>
          <a:prstGeom prst="rect">
            <a:avLst/>
          </a:prstGeom>
          <a:noFill/>
          <a:ln w="0">
            <a:noFill/>
          </a:ln>
        </p:spPr>
        <p:txBody>
          <a:bodyPr lIns="90000" rIns="90000" tIns="46800" bIns="46800" anchor="t">
            <a:normAutofit/>
          </a:bodyPr>
          <a:p>
            <a:pPr marL="343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4400" spc="-1" strike="noStrike">
                <a:solidFill>
                  <a:srgbClr val="000000"/>
                </a:solidFill>
                <a:latin typeface="Comic Sans MS"/>
              </a:rPr>
              <a:t>Laddove è abbondato il peccato, ha sovrabbondato la grazia.</a:t>
            </a:r>
            <a:endParaRPr b="0" lang="en-US" sz="4400" spc="-1" strike="noStrike">
              <a:solidFill>
                <a:srgbClr val="000000"/>
              </a:solidFill>
              <a:latin typeface="Arial"/>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Rm 5,20)</a:t>
            </a:r>
            <a:endParaRPr b="0" lang="en-US" sz="2800" spc="-1" strike="noStrike">
              <a:solidFill>
                <a:srgbClr val="000000"/>
              </a:solidFill>
              <a:latin typeface="Arial"/>
            </a:endParaRPr>
          </a:p>
        </p:txBody>
      </p:sp>
      <p:pic>
        <p:nvPicPr>
          <p:cNvPr id="56" name="" descr=""/>
          <p:cNvPicPr/>
          <p:nvPr/>
        </p:nvPicPr>
        <p:blipFill>
          <a:blip r:embed="rId1"/>
          <a:srcRect l="0" t="0" r="85501" b="68727"/>
          <a:stretch/>
        </p:blipFill>
        <p:spPr>
          <a:xfrm>
            <a:off x="573120" y="1052640"/>
            <a:ext cx="2486160" cy="46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862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00"/>
                </a:solidFill>
                <a:latin typeface="Comic Sans MS"/>
              </a:rPr>
              <a:t>E’ apparsa la grazia di Dio, apportatrice di salvezza per tutti gli uomini…   </a:t>
            </a:r>
            <a:r>
              <a:rPr b="0" lang="it-IT" sz="4800" spc="-1" strike="noStrike">
                <a:solidFill>
                  <a:srgbClr val="000000"/>
                </a:solidFill>
                <a:latin typeface="Comic Sans MS"/>
              </a:rPr>
              <a:t>(Tt 2,11)</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332000" y="0"/>
            <a:ext cx="675468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6T19:55:54Z</dcterms:created>
  <dc:creator>Paolo</dc:creator>
  <dc:description/>
  <dc:language>en-US</dc:language>
  <cp:lastModifiedBy>Paolo</cp:lastModifiedBy>
  <dcterms:modified xsi:type="dcterms:W3CDTF">2006-03-23T16:56:59Z</dcterms:modified>
  <cp:revision>128</cp:revision>
  <dc:subject/>
  <dc:title>L’INCARNAZIONE</dc:title>
</cp:coreProperties>
</file>