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FC4C-60EC-4560-A072-50F47CF885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esù al Getsèman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L’anima mia è triste fino alla mor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ngoscia e la tristezza umana di fronte alla morte imminente e cert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Gesù Dio stesso condivide i momenti più bui ed angosciosi dell’esistenza di ogni uo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esù è vero uomo, uomo fino in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la volontà umana di Cristo si abbandona fiduciosa alla volontà di D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è in Gesù paura, tristezza, ma non disperazione. Se la volontà di Dio appare a volte dura e difficile da accettare, la fede ci dice però che Dio è amore e quindi, in ultima analisi, la sua volontà per gli uomini non può che essere una volontà di amore e di bene, anche se passa attraverso strade umanamente incomprensibili; una volontà di vita, non di mor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allora l’abbandono di Cristo alla volontà del Pad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bbedienza di Cristo ripara alla disobbedienza di Adam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radimento di Giuda si cons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bbandono da parte degli apostoli.</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oi tutti vi scandalizzerete”: scandalo religioso di vedere soccombere senza resistenza colui che essi ritengono il Messia e di cui attendono prossimo il trionfo. I discepoli vi perderanno per un momento il coraggio e perfino la fe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Messia non avrebbe dovuto manifestarsi nella forza, nella potenza, nella glor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scandalo di un Dio debole, umiliato, sconfitto secondo la mentalità ed il modo di ragionare degli uomin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generosità istintiva di Pie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ù ha liberamente accettato il disegno di Di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esù condotto dal sommo sacerdote e primo rinnegamento di Pietr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sacerdote Caifa si strappa le vesti per quella che considera la bestemmia di Gesù.</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condo rinnegamento di Pietr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umiliazione di Ges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erzo rinnegamento di Pietr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 cosa si celebra a Pasq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isurrezione di Gesù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aura di dirsi cristian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ante volte anche noi, come Pietro, ci vergognamo di Gesù e della nostra fede, temendo di essere derisi e sbeffeggiati?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vera regalità di Cristo: regalità come servizio, non come potere mondan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ferimento alla lavanda dei piedi.</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crocifissio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tto la croce due gruppi opposti di perso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istra le donne e i pochi discepoli rimast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tra gli uomini che si fanno beffe di Gesù.</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centro si erge Gesù crocifisso, segno di contraddizion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verità suscita reazioni contrastanti, rifiuto, ostilità. Ancora adesso, di fronte a Gesù Cristo crocifisso, possiamo osservare reazioni opposte e contrastanti.</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uni versetti biblici per riflettere sulla crocifission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la storia di Gesù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deposi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esenza delle donn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ù viene deposto nel sepolc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esenza delle donn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buon mattino, il primo giorno dopo il sabato, le donne si recano a visitare il sepolcr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a trovan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sepolcro vu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amo così giunti all’immagine da cui siamo partit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inciamo la nostra storia dal sepolcro vuot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orpo di Gesù è sparito; che fine ha fatt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esù è morto in croce, lo hanno visto in tanti: molti possono testimoniarlo. Il suo fianco è stato addirittura trafitto da una lancia. I suoi nemici finalmente si sono sbarazzati di lui.</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a volta morto, le donne e due discepoli lo hanno pietosamente avvolto in un lenzuolo e deposto in un sepolcro che viene poi sigillato con una grossa pietr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esso quella pietra non è più al suo posto, è stata rotolata via ed il sepolcro è vuot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v’è il corpo di Gesù? Qualcuno pensa che sia stato rubato, magari dagli apostoli, per far poi credere che Gesù è risuscitato dai morti.</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 le donne prima, i discepoli poi, anche loro inizialmente increduli, fanno una esperienza straordinaria dopo aver trovato il sepolcro vuoto: incontrano il Signore Risorto. Dunque Gesù è veramente risorto come aveva detto: Gesù è morto in croce, ma Dio lo ha risuscitato, quindi adesso è vivo! E’ apparso agli apostoli e a molti discepoli, ed è salito al cielo alla destra del Pad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questo momento in poi gli apostoli spenderanno l’intera loro vita per annunciare questo: Gesù è risort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evidentemente l’evento straordinario che ha cambiato la loro vita e la vita di chi è venuto dopo di lor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giamo uno dei racconti evangelici sulle donne al sepolc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ruolo straordinario delle donne negli ultimi giorni della vicenda terrena di Gesù.</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fferenza degli apostoli, non scappano, ma sono presenti ai piedi della croce, manifestando una tenerezza ed un amore grandissimi per il loro Maestro, pur nello strazio di un dolore immen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o slancio ed una pietà tipicamente femminil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donne sono le prime a ricevere l’annuncio dell’angelo e sono le prime ad incontrare il Signore risorto. Sono le prime a credere alla risurrezione (le prime credenti) e sono le prime ad annunciare la risurrezione (le prime evangelizzatrici, le prime missionarie, le prime catechiste); fatto questo straordinario se si considera che a quell’epoca le donne non avevano voce in capitolo e la loro testimonianza nei processi non aveva alcun valore. Gli apostoli di fatti non credono alle donne, fino a quando il Signore non apparirà anche a lor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Signore risorto appare a Maria di Magdal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esù risorto finalmente appare agli apostol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apostoli inizialmente sono tra l’incredulo e lo stupito, per poi “scoppiare” dalla gioia quando riconoscono il Signore dai segni della passione sulle sue mani e sui suoi piedi (cfr. Lc 2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quel Gesù torturato, crocifisso e morto, ora è risorto e vivo in mezzo ai suoi.</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vicenda di Gesù di Nazaret non è la semplice storia di un uomo, sia pure saggio ed illuminato, che termina definitivamente con la sua morte. Gesù di Nazaret è realmente il Figlio di Dio, Dio stesso che si è fatto uomo per la nostra salvezza: la sua risurrezione ne è la garanz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 Gesù non fosse risorto, vana sarebbe la nostra fede; la sua storia sarebbe solo un fatto del passato. La risurrezione ci dice invece che lui è vivo e la sua storia continua; la sua stessa vicenda terrena non è solo un fatto lontano nel tempo, ma è continuamente attualizzata e resa presente per noi nell’oggi della stor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esù è risorto, quindi è e sempre sarà vivo e presente in mezzo a noi. Gesù è il vivente, il Dio con noi. Se lo accogliamo nella fede, sarà lui a guidarci verso la pienezza della vit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 la risurrezione ha sconfitto la morte, percorrendo per primo la strada riservata da Dio per tutti gli uomini. La morte non è l’ultima parola sulla vita dell’uomo. Questa è la nostra speranz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92280" y="4356000"/>
            <a:ext cx="5486400" cy="44640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urrezione è il fondamento di tutta la nostra fede. Senza la risurrezione di Cristo, nulla avrebbe realmente senso di tutto ciò in cui crediamo. La vicenda di Gesù sarebbe una bella storia edificante, ma nulla più. Gesù sarebbe un grande uomo, un bell’esempio per tutti noi, come altri che la storia ci ha donato, ma nulla di più.</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tutti però, allora come oggi, credono che Gesù sia realmente risorto. C’è chi dice che sia una menzogna, una impostura (hanno rubato il cadavere); c’è chi ritiene invece che la risurrezione sia solo un mito, non un evento cioè realmente accaduto, e un modo per dire che Gesù e il suo insegnamento rimangono vivi nei cuori dei suoi discepoli che ne portano avanti il messaggio. C’è pure, infine, chi sostiene che gli apostoli siano dei pazzi e degli esaltat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a gli apostoli hanno testimoniato che Gesù è realmente risorto. Hanno affermato che la risurrezione è stata un evento storico realmente accaduto che ha cambiato la loro vita. Prima di trovare il sepolcro vuoto e di incontrare il Risorto, erano tristi e sfiduciati: credevano che con la morte del loro maestro tutto si fosse concluso nel peggiore dei modi, credevano che tutto si fosse risolto in un tragico fallimento. Non avevano certo la forza e la voglia di inventarsi una bella favola o di organizzare una frode in grande stile. Erano inoltre attanagliati dalla paura di fare la stessa fine di Gesù e se ne stavano barricati in casa. Solo un evento reale e straordinario poteva capovolgere questa situazione. Gesù è realmente risorto! Tutto allora, inaspettatamente, acquista significato: tutta la vicenda di Gesù non si è conclusa con un fallimento, ma la storia continua, nuova e sorprendente; si aprono nuovi ed inimmagginabili orizzonti. Ecco allora che gli apostoli, da fifoni, diventano incredibilmente coraggiosi e percorreranno il mondo per annunciare che Gesù è risorto. Non solo, moriranno tutti martiri: si faranno uccidere come il loro Maestro per testimoniare la verità, che cioè Gesù è realmente risorto.</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ulla testimonianza degli apostoli noi poniamo il nostro atto di fede. Cristiano è colui che crede che Gesù è realmente risorto, fidandosi della testimonianza degli apostol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roviamo adesso a percorrere insieme gli ultimi giorni della vicenda terrena di Gesù, così come li celebriamo e riviviamo nel triduo pasqual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giovedì sa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lavanda dei pied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rensione degli apostol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ù manifesta in questo gesto l’infinito amore di Dio per gli uomin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e come servizio, come donazione totale di sé per gli altri, fino all’effusione del sangu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o gesto preannuncia, anticipa e spiega il mistero stesso della croce che si compirà poche ore più tard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croce come momento culminante della manifestazione dell’amore di D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to è venuto per servire gli uomini, cioè per salvarli, donando tutto se stesso fino alla mort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credulità, dubbi ed incomprensione di Pietro e degli altri apostol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l’esempio di Cristo, anche noi siamo invitati a fare della nostra vita un dono d’amore per i fratelli. Nell’amore, nel servizio sta la grandezza dell’uo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omo esiste per amare; l’uomo si realizza solamente amand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ultima cen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uncio del tradimento di Giu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gnello pasquale al centro della tavola, di fronte a Gesù. Nella celebrazione della Pasqua ebraica veniva immolato un agnello come vittima sacrificale. Ora Cristo è il vero e definitivo agnello pasquale immolato per la nostra salvezza (la croce) e mangiato nell’eucaristia (cfr. “Agnello di D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tradimento di Giu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CF9C2-44BD-40B1-AB96-1446255C8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26F44-FD0C-40E6-8866-F65695CE5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D48E7-ACB8-463B-9028-77BE97A11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D50FC-E95E-416A-900A-BE011B576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2C030-2174-4DDD-A736-5E1AF82A6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114C4-ADFE-4415-A0E4-B6043BD13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B3D8D-9BC5-420E-A0CA-0B96DD3CC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868C0-D047-4DB0-9D94-3AA07DE02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446F6-E530-46F3-BFC8-954FDD647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7A16-78AF-45A7-847D-AF6DCE16D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06204-1965-4D1C-9BEC-1BD16982C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62B2D-9C29-49B1-A94D-52B84ADE5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3082-2BD5-4A70-ACA4-75C3996A17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8.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omic Sans MS"/>
              </a:rPr>
              <a:t>LA PASQU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0" t="0" r="399" b="0"/>
          <a:stretch/>
        </p:blipFill>
        <p:spPr>
          <a:xfrm>
            <a:off x="0" y="541440"/>
            <a:ext cx="9144000" cy="57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48320" y="909360"/>
            <a:ext cx="4038480" cy="5040360"/>
          </a:xfrm>
          <a:prstGeom prst="rect">
            <a:avLst/>
          </a:prstGeom>
          <a:noFill/>
          <a:ln w="0">
            <a:noFill/>
          </a:ln>
        </p:spPr>
        <p:txBody>
          <a:bodyPr lIns="90000" rIns="90000" tIns="46800" bIns="46800"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3600" spc="-1" strike="noStrike">
                <a:solidFill>
                  <a:srgbClr val="000000"/>
                </a:solidFill>
                <a:latin typeface="Comic Sans MS"/>
              </a:rPr>
              <a:t>“</a:t>
            </a:r>
            <a:r>
              <a:rPr b="0" lang="it-IT" sz="3600" spc="-1" strike="noStrike">
                <a:solidFill>
                  <a:srgbClr val="000000"/>
                </a:solidFill>
                <a:latin typeface="Comic Sans MS"/>
              </a:rPr>
              <a:t>Abbà, Padre! Tutto è possibile a te, allontana da me questo calice! Però non ciò che io voglio, ma ciò che vuoi tu”.</a:t>
            </a:r>
            <a:endParaRPr b="0" lang="en-US" sz="36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Mc 14,36</a:t>
            </a:r>
            <a:endParaRPr b="0" lang="en-US" sz="2800" spc="-1" strike="noStrike">
              <a:solidFill>
                <a:srgbClr val="000000"/>
              </a:solidFill>
              <a:latin typeface="Arial"/>
            </a:endParaRPr>
          </a:p>
        </p:txBody>
      </p:sp>
      <p:pic>
        <p:nvPicPr>
          <p:cNvPr id="61" name="" descr=""/>
          <p:cNvPicPr/>
          <p:nvPr/>
        </p:nvPicPr>
        <p:blipFill>
          <a:blip r:embed="rId1"/>
          <a:srcRect l="71570" t="0" r="0" b="38083"/>
          <a:stretch/>
        </p:blipFill>
        <p:spPr>
          <a:xfrm>
            <a:off x="250920" y="620640"/>
            <a:ext cx="4105080" cy="561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400" b="0"/>
          <a:stretch/>
        </p:blipFill>
        <p:spPr>
          <a:xfrm>
            <a:off x="0" y="404640"/>
            <a:ext cx="9144000" cy="603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08000" y="404280"/>
            <a:ext cx="590400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5200" spc="-1" strike="noStrike">
                <a:solidFill>
                  <a:srgbClr val="000000"/>
                </a:solidFill>
                <a:latin typeface="Comic Sans MS"/>
              </a:rPr>
              <a:t>Tutti allora, abbandonandolo, fuggirono.</a:t>
            </a:r>
            <a:endParaRPr b="0" lang="en-US" sz="52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200" spc="-1" strike="noStrike">
                <a:solidFill>
                  <a:srgbClr val="000000"/>
                </a:solidFill>
                <a:latin typeface="Comic Sans MS"/>
              </a:rPr>
              <a:t>               </a:t>
            </a:r>
            <a:r>
              <a:rPr b="0" lang="it-IT" sz="4000" spc="-1" strike="noStrike">
                <a:solidFill>
                  <a:srgbClr val="000000"/>
                </a:solidFill>
                <a:latin typeface="Comic Sans MS"/>
              </a:rPr>
              <a:t>Mc 14,50</a:t>
            </a:r>
            <a:endParaRPr b="0" lang="en-US" sz="4000" spc="-1" strike="noStrike">
              <a:solidFill>
                <a:srgbClr val="000000"/>
              </a:solidFill>
              <a:latin typeface="Arial"/>
            </a:endParaRPr>
          </a:p>
        </p:txBody>
      </p:sp>
      <p:pic>
        <p:nvPicPr>
          <p:cNvPr id="64" name="" descr=""/>
          <p:cNvPicPr/>
          <p:nvPr/>
        </p:nvPicPr>
        <p:blipFill>
          <a:blip r:embed="rId1"/>
          <a:srcRect l="67653" t="0" r="0" b="2437"/>
          <a:stretch/>
        </p:blipFill>
        <p:spPr>
          <a:xfrm>
            <a:off x="5708520" y="144360"/>
            <a:ext cx="3327480" cy="659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43040"/>
            <a:ext cx="8229600" cy="344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L’apostolo Pietro</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769920" y="549000"/>
            <a:ext cx="4978440" cy="6165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Allora Gesù disse loro: “Voi tutti vi scandalizzerete per causa mia in questa notte”. E Pietro gli disse: “Anche se tutti si scandalizzassero di te, io non mi scandalizzerò mai”. Gli disse Gesù: “In verità ti dico: questa notte stessa, prima che il gallo canti, mi rinnegherai tre volte”. E Pietro gli rispose: “Anche se dovessi morire con te, non ti rinnegher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Mt 26,31-35</a:t>
            </a:r>
            <a:endParaRPr b="0" lang="en-US" sz="2800" spc="-1" strike="noStrike">
              <a:solidFill>
                <a:srgbClr val="000000"/>
              </a:solidFill>
              <a:latin typeface="Arial"/>
            </a:endParaRPr>
          </a:p>
        </p:txBody>
      </p:sp>
      <p:pic>
        <p:nvPicPr>
          <p:cNvPr id="67" name="" descr=""/>
          <p:cNvPicPr/>
          <p:nvPr/>
        </p:nvPicPr>
        <p:blipFill>
          <a:blip r:embed="rId1"/>
          <a:srcRect l="23429" t="16323" r="60541" b="51041"/>
          <a:stretch/>
        </p:blipFill>
        <p:spPr>
          <a:xfrm>
            <a:off x="539640" y="836640"/>
            <a:ext cx="295596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560" y="692280"/>
            <a:ext cx="4249800" cy="54734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4400" spc="-1" strike="noStrike">
                <a:solidFill>
                  <a:srgbClr val="000000"/>
                </a:solidFill>
                <a:latin typeface="Arial"/>
              </a:rPr>
              <a:t>“</a:t>
            </a:r>
            <a:r>
              <a:rPr b="0" lang="it-IT" sz="4400" spc="-1" strike="noStrike">
                <a:solidFill>
                  <a:srgbClr val="000000"/>
                </a:solidFill>
                <a:latin typeface="Comic Sans MS"/>
              </a:rPr>
              <a:t>Rimetti la tua spada nel fodero; non devo forse bere il calice che il Padre mi ha dato?”</a:t>
            </a:r>
            <a:endParaRPr b="0" lang="en-US" sz="4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Gv 18,11</a:t>
            </a:r>
            <a:endParaRPr b="0" lang="en-US" sz="3200" spc="-1" strike="noStrike">
              <a:solidFill>
                <a:srgbClr val="000000"/>
              </a:solidFill>
              <a:latin typeface="Arial"/>
            </a:endParaRPr>
          </a:p>
        </p:txBody>
      </p:sp>
      <p:pic>
        <p:nvPicPr>
          <p:cNvPr id="69" name="" descr=""/>
          <p:cNvPicPr/>
          <p:nvPr/>
        </p:nvPicPr>
        <p:blipFill>
          <a:blip r:embed="rId1"/>
          <a:srcRect l="0" t="0" r="62659" b="0"/>
          <a:stretch/>
        </p:blipFill>
        <p:spPr>
          <a:xfrm>
            <a:off x="4908600" y="0"/>
            <a:ext cx="3911400" cy="688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771640" y="0"/>
            <a:ext cx="3975120" cy="688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11280" y="0"/>
            <a:ext cx="7921440" cy="688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900000" y="-9360"/>
            <a:ext cx="7344000" cy="689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88640"/>
            <a:ext cx="8353440" cy="61196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IL TERZO GIORNO</a:t>
            </a:r>
            <a:br>
              <a:rPr sz="6600"/>
            </a:br>
            <a:r>
              <a:rPr b="0" lang="en-US" sz="6600" spc="-1" strike="noStrike">
                <a:solidFill>
                  <a:srgbClr val="ff0000"/>
                </a:solidFill>
                <a:latin typeface="Comic Sans MS"/>
              </a:rPr>
              <a:t>E’ RISUSCITATO</a:t>
            </a:r>
            <a:r>
              <a:rPr b="0" lang="en-US" sz="6000" spc="-1" strike="noStrike">
                <a:solidFill>
                  <a:srgbClr val="000000"/>
                </a:solidFill>
                <a:latin typeface="Comic Sans MS"/>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rcRect l="0" t="0" r="73894" b="67560"/>
          <a:stretch/>
        </p:blipFill>
        <p:spPr>
          <a:xfrm>
            <a:off x="2160720" y="620640"/>
            <a:ext cx="4814640" cy="561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39400"/>
            <a:ext cx="8229600" cy="502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Comic Sans MS"/>
              </a:rPr>
              <a:t>E scoppiò in pianto</a:t>
            </a:r>
            <a:br>
              <a:rPr sz="7200"/>
            </a:br>
            <a:br>
              <a:rPr sz="7200"/>
            </a:br>
            <a:r>
              <a:rPr b="0" lang="it-IT" sz="4400" spc="-1" strike="noStrike">
                <a:solidFill>
                  <a:srgbClr val="000000"/>
                </a:solidFill>
                <a:latin typeface="Comic Sans MS"/>
              </a:rPr>
              <a:t>                             Mc 14,7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943" t="0" r="973" b="387"/>
          <a:stretch/>
        </p:blipFill>
        <p:spPr>
          <a:xfrm>
            <a:off x="900000" y="-11160"/>
            <a:ext cx="7417080" cy="693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050920" y="0"/>
            <a:ext cx="52228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6394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Nessuno ha un amore più grande di questo: dare la vita per i propri amici.</a:t>
            </a:r>
            <a:br>
              <a:rPr sz="4000"/>
            </a:br>
            <a:r>
              <a:rPr b="0" lang="it-IT" sz="4000" spc="-1" strike="noStrike">
                <a:solidFill>
                  <a:srgbClr val="000000"/>
                </a:solidFill>
                <a:latin typeface="Comic Sans MS"/>
              </a:rPr>
              <a:t>                                        </a:t>
            </a:r>
            <a:r>
              <a:rPr b="0" lang="it-IT" sz="3200" spc="-1" strike="noStrike">
                <a:solidFill>
                  <a:srgbClr val="000000"/>
                </a:solidFill>
                <a:latin typeface="Comic Sans MS"/>
              </a:rPr>
              <a:t>Gv 15,13</a:t>
            </a:r>
            <a:br>
              <a:rPr sz="3200"/>
            </a:br>
            <a:br>
              <a:rPr sz="4000"/>
            </a:br>
            <a:r>
              <a:rPr b="0" lang="it-IT" sz="4000" spc="-1" strike="noStrike">
                <a:solidFill>
                  <a:srgbClr val="000000"/>
                </a:solidFill>
                <a:latin typeface="Comic Sans MS"/>
              </a:rPr>
              <a:t>Dio ha tanto amato il mondo da dare il suo Figlio unigenito, perché chiunque crede in lui non muoia, ma abbia la vita eterna.</a:t>
            </a:r>
            <a:br>
              <a:rPr sz="4000"/>
            </a:br>
            <a:r>
              <a:rPr b="0" lang="it-IT" sz="4000" spc="-1" strike="noStrike">
                <a:solidFill>
                  <a:srgbClr val="000000"/>
                </a:solidFill>
                <a:latin typeface="Comic Sans MS"/>
              </a:rPr>
              <a:t>                                         </a:t>
            </a:r>
            <a:r>
              <a:rPr b="0" lang="it-IT" sz="3200" spc="-1" strike="noStrike">
                <a:solidFill>
                  <a:srgbClr val="000000"/>
                </a:solidFill>
                <a:latin typeface="Comic Sans MS"/>
              </a:rPr>
              <a:t>Gv 3,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64000" y="836280"/>
            <a:ext cx="3600720" cy="5111640"/>
          </a:xfrm>
          <a:prstGeom prst="rect">
            <a:avLst/>
          </a:prstGeom>
          <a:noFill/>
          <a:ln w="0">
            <a:noFill/>
          </a:ln>
        </p:spPr>
        <p:txBody>
          <a:bodyPr lIns="90000" rIns="90000" tIns="46800" bIns="46800" anchor="t">
            <a:normAutofit fontScale="95000"/>
          </a:bodyPr>
          <a:p>
            <a:pPr marL="32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3600" spc="-1" strike="noStrike">
                <a:solidFill>
                  <a:srgbClr val="000000"/>
                </a:solidFill>
                <a:latin typeface="Comic Sans MS"/>
              </a:rPr>
              <a:t>Se il chicco di grano caduto in terra non muore, rimane solo; se invece muore, produce molto frutto.</a:t>
            </a:r>
            <a:endParaRPr b="0" lang="en-US" sz="36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Gv 12,24</a:t>
            </a:r>
            <a:endParaRPr b="0" lang="en-US" sz="2800" spc="-1" strike="noStrike">
              <a:solidFill>
                <a:srgbClr val="000000"/>
              </a:solidFill>
              <a:latin typeface="Arial"/>
            </a:endParaRPr>
          </a:p>
        </p:txBody>
      </p:sp>
      <p:pic>
        <p:nvPicPr>
          <p:cNvPr id="79" name="" descr=""/>
          <p:cNvPicPr/>
          <p:nvPr/>
        </p:nvPicPr>
        <p:blipFill>
          <a:blip r:embed="rId1"/>
          <a:srcRect l="25149" t="8596" r="26761" b="53245"/>
          <a:stretch/>
        </p:blipFill>
        <p:spPr>
          <a:xfrm>
            <a:off x="252360" y="693720"/>
            <a:ext cx="5111640" cy="532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900000" y="27000"/>
            <a:ext cx="7417080" cy="681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900000" y="-7920"/>
            <a:ext cx="7417080" cy="688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LE DONNE AL SEPOLCRO</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900000" y="-23760"/>
            <a:ext cx="7417080" cy="692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900000" y="-23760"/>
            <a:ext cx="7417080" cy="6921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201600"/>
            <a:ext cx="8642160" cy="6540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Passato il sabato, all’alba del primo giorno della settimana, Maria di Magdala e l’altra Maria andarono a visitare il sepolcro. Ed ecco che vi fu un gran terremoto: un angelo del Signore, sceso dal cielo, si accostò, rotolò la pietra e si pose a sedere su di essa. Il suo aspetto era come la folgore e il suo vestito bianco come la neve. Per lo spavento che ebbero di lui le guardie tremarono tramortite. Ma l’angelo disse alle donne: “Non abbiate paura, voi! So che cercate Gesù il crocifisso. Non è qui. E’ risorto, come aveva detto; venite a vedere il luogo dove era deposto. Presto, andate a dire ai suoi discepoli: E’ risuscitato dai morti, e ora vi precede in Galilea; là lo vedrete. Ecco, io ve l’ho detto”. Abbandonato in fretta il sepolcro, con timore e gioia grande, le donne corsero a dare l’annunzio ai suoi discepoli.</a:t>
            </a:r>
            <a:br>
              <a:rPr sz="2200"/>
            </a:br>
            <a:r>
              <a:rPr b="0" lang="it-IT" sz="2200" spc="-1" strike="noStrike">
                <a:solidFill>
                  <a:srgbClr val="000000"/>
                </a:solidFill>
                <a:latin typeface="Comic Sans MS"/>
              </a:rPr>
              <a:t>Ed ecco Gesù venne loro incontro dicendo: “Salute a voi”. Ed esse, avvicinatesi, gli presero i piedi e lo adorarono. Allora Gesù disse loro: “Non temete; andate ad annunciare ai miei fratelli che vadano in Galilea e là mi vedranno”. </a:t>
            </a:r>
            <a:br>
              <a:rPr sz="2200"/>
            </a:br>
            <a:br>
              <a:rPr sz="2200"/>
            </a:br>
            <a:r>
              <a:rPr b="0" lang="it-IT" sz="2000" spc="-1" strike="noStrike">
                <a:solidFill>
                  <a:srgbClr val="000000"/>
                </a:solidFill>
                <a:latin typeface="Comic Sans MS"/>
              </a:rPr>
              <a:t>                                                                                              Mt 28,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81160" y="981000"/>
            <a:ext cx="3917880" cy="5145120"/>
          </a:xfrm>
          <a:prstGeom prst="rect">
            <a:avLst/>
          </a:prstGeom>
          <a:ln w="0">
            <a:noFill/>
          </a:ln>
        </p:spPr>
      </p:pic>
      <p:pic>
        <p:nvPicPr>
          <p:cNvPr id="86" name="" descr=""/>
          <p:cNvPicPr/>
          <p:nvPr/>
        </p:nvPicPr>
        <p:blipFill>
          <a:blip r:embed="rId2"/>
          <a:stretch/>
        </p:blipFill>
        <p:spPr>
          <a:xfrm>
            <a:off x="4427640" y="1589040"/>
            <a:ext cx="4495680" cy="4127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765000"/>
            <a:ext cx="4316400" cy="4007160"/>
          </a:xfrm>
          <a:prstGeom prst="rect">
            <a:avLst/>
          </a:prstGeom>
          <a:ln w="0">
            <a:noFill/>
          </a:ln>
        </p:spPr>
      </p:pic>
      <p:pic>
        <p:nvPicPr>
          <p:cNvPr id="88" name="" descr=""/>
          <p:cNvPicPr/>
          <p:nvPr/>
        </p:nvPicPr>
        <p:blipFill>
          <a:blip r:embed="rId2"/>
          <a:stretch/>
        </p:blipFill>
        <p:spPr>
          <a:xfrm>
            <a:off x="4648320" y="2138400"/>
            <a:ext cx="4316400" cy="4027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0" t="644" r="0" b="392"/>
          <a:stretch/>
        </p:blipFill>
        <p:spPr>
          <a:xfrm>
            <a:off x="611280" y="0"/>
            <a:ext cx="799308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rcRect l="0" t="-727" r="1941" b="1491"/>
          <a:stretch/>
        </p:blipFill>
        <p:spPr>
          <a:xfrm>
            <a:off x="-181080" y="-117360"/>
            <a:ext cx="9433080" cy="7075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564000" y="658800"/>
            <a:ext cx="5364000" cy="586584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6000" spc="-1" strike="noStrike">
                <a:solidFill>
                  <a:srgbClr val="000000"/>
                </a:solidFill>
                <a:latin typeface="Comic Sans MS"/>
              </a:rPr>
              <a:t>“</a:t>
            </a:r>
            <a:r>
              <a:rPr b="0" lang="it-IT" sz="6000" spc="-1" strike="noStrike">
                <a:solidFill>
                  <a:srgbClr val="000000"/>
                </a:solidFill>
                <a:latin typeface="Comic Sans MS"/>
              </a:rPr>
              <a:t>Ecco, io sono con voi tutti i giorni, fino alla fine del mondo”.</a:t>
            </a:r>
            <a:endParaRPr b="0" lang="en-US" sz="6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                       </a:t>
            </a:r>
            <a:r>
              <a:rPr b="0" lang="it-IT" sz="3600" spc="-1" strike="noStrike">
                <a:solidFill>
                  <a:srgbClr val="000000"/>
                </a:solidFill>
                <a:latin typeface="Comic Sans MS"/>
              </a:rPr>
              <a:t>Mt 28,20</a:t>
            </a:r>
            <a:endParaRPr b="0" lang="en-US" sz="3600" spc="-1" strike="noStrike">
              <a:solidFill>
                <a:srgbClr val="000000"/>
              </a:solidFill>
              <a:latin typeface="Arial"/>
            </a:endParaRPr>
          </a:p>
        </p:txBody>
      </p:sp>
      <p:pic>
        <p:nvPicPr>
          <p:cNvPr id="92" name="" descr=""/>
          <p:cNvPicPr/>
          <p:nvPr/>
        </p:nvPicPr>
        <p:blipFill>
          <a:blip r:embed="rId1"/>
          <a:srcRect l="35929" t="0" r="31997" b="0"/>
          <a:stretch/>
        </p:blipFill>
        <p:spPr>
          <a:xfrm>
            <a:off x="468360" y="216000"/>
            <a:ext cx="2792520" cy="645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1709280"/>
            <a:ext cx="8229600" cy="3519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omic Sans MS"/>
              </a:rPr>
              <a:t>Se Cristo non è risorto, è vana la nostra fede.</a:t>
            </a:r>
            <a:r>
              <a:rPr b="0" lang="en-US" sz="6600" spc="-1" strike="noStrike">
                <a:solidFill>
                  <a:srgbClr val="000000"/>
                </a:solidFill>
                <a:latin typeface="Comic Sans MS"/>
              </a:rPr>
              <a:t> </a:t>
            </a:r>
            <a:br>
              <a:rPr sz="6600"/>
            </a:br>
            <a:br>
              <a:rPr sz="4800"/>
            </a:br>
            <a:r>
              <a:rPr b="0" lang="en-US" sz="3200" spc="-1" strike="noStrike">
                <a:solidFill>
                  <a:srgbClr val="000000"/>
                </a:solidFill>
                <a:latin typeface="Comic Sans MS"/>
              </a:rPr>
              <a:t>(1Cor 15,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042920" y="27000"/>
            <a:ext cx="7129440" cy="682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rcRect l="28775" t="44379" r="49808" b="20242"/>
          <a:stretch/>
        </p:blipFill>
        <p:spPr>
          <a:xfrm>
            <a:off x="5583240" y="3068640"/>
            <a:ext cx="2228760" cy="3527280"/>
          </a:xfrm>
          <a:prstGeom prst="rect">
            <a:avLst/>
          </a:prstGeom>
          <a:ln w="0">
            <a:noFill/>
          </a:ln>
        </p:spPr>
      </p:pic>
      <p:pic>
        <p:nvPicPr>
          <p:cNvPr id="54" name="" descr=""/>
          <p:cNvPicPr/>
          <p:nvPr/>
        </p:nvPicPr>
        <p:blipFill>
          <a:blip r:embed="rId2"/>
          <a:srcRect l="62769" t="40561" r="14590" b="42539"/>
          <a:stretch/>
        </p:blipFill>
        <p:spPr>
          <a:xfrm>
            <a:off x="5219640" y="330120"/>
            <a:ext cx="3024360" cy="2162160"/>
          </a:xfrm>
          <a:prstGeom prst="rect">
            <a:avLst/>
          </a:prstGeom>
          <a:ln w="0">
            <a:noFill/>
          </a:ln>
        </p:spPr>
      </p:pic>
      <p:pic>
        <p:nvPicPr>
          <p:cNvPr id="55" name="" descr=""/>
          <p:cNvPicPr/>
          <p:nvPr/>
        </p:nvPicPr>
        <p:blipFill>
          <a:blip r:embed="rId3"/>
          <a:srcRect l="0" t="48676" r="68689" b="0"/>
          <a:stretch/>
        </p:blipFill>
        <p:spPr>
          <a:xfrm>
            <a:off x="614520" y="1052640"/>
            <a:ext cx="3165480" cy="49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t>
            </a:r>
            <a:r>
              <a:rPr b="0" lang="it-IT" sz="4000" spc="-1" strike="noStrike">
                <a:solidFill>
                  <a:srgbClr val="000000"/>
                </a:solidFill>
                <a:latin typeface="Comic Sans MS"/>
              </a:rPr>
              <a:t>Sapete ciò che vi ho fatto? Voi mi chiamate Maestro e Signore e dite bene, perché lo sono. Se dunque io, il Signore e Maestro, ho lavato i vostri piedi, anche voi dovete lavarvi i piedi gli uni gli altri. Vi ho dato infatti l’esempio, perché come ho fatto io, facciate anche voi”.</a:t>
            </a:r>
            <a:br>
              <a:rPr sz="4000"/>
            </a:br>
            <a:r>
              <a:rPr b="0" lang="it-IT" sz="3600" spc="-1" strike="noStrike">
                <a:solidFill>
                  <a:srgbClr val="000000"/>
                </a:solidFill>
                <a:latin typeface="Comic Sans MS"/>
              </a:rPr>
              <a:t>                                            </a:t>
            </a:r>
            <a:r>
              <a:rPr b="0" lang="it-IT" sz="2800" spc="-1" strike="noStrike">
                <a:solidFill>
                  <a:srgbClr val="000000"/>
                </a:solidFill>
                <a:latin typeface="Comic Sans MS"/>
              </a:rPr>
              <a:t>Gv 13, 12-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0" t="0" r="0" b="2753"/>
          <a:stretch/>
        </p:blipFill>
        <p:spPr>
          <a:xfrm>
            <a:off x="611280" y="-4680"/>
            <a:ext cx="80643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826920" y="-27000"/>
            <a:ext cx="7561440" cy="692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13:42:53Z</dcterms:created>
  <dc:creator>Paolo</dc:creator>
  <dc:description/>
  <dc:language>en-US</dc:language>
  <cp:lastModifiedBy>Paolo</cp:lastModifiedBy>
  <dcterms:modified xsi:type="dcterms:W3CDTF">2006-04-03T13:38:25Z</dcterms:modified>
  <cp:revision>87</cp:revision>
  <dc:subject/>
  <dc:title>…E’ RISUSCITATO IL TERZO GIORNO</dc:title>
</cp:coreProperties>
</file>